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1.xml" ContentType="application/vnd.openxmlformats-officedocument.presentationml.comments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29T14:56:48.154000000" idx="1">
    <p:pos x="5148" y="618"/>
    <p:text>
</p:text>
  </p:cm>
</p:cmLst>
</file>

<file path=ppt/comments/comment15.xml><?xml version="1.0" encoding="utf-8"?>
<p:cmLst xmlns:p="http://schemas.openxmlformats.org/presentationml/2006/main">
  <p:cm authorId="0" dt="2016-08-29T14:56:54.906000000" idx="2">
    <p:pos x="5187" y="1207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5" descr=""/>
          <p:cNvPicPr/>
          <p:nvPr/>
        </p:nvPicPr>
        <p:blipFill>
          <a:blip r:embed="rId1"/>
          <a:stretch/>
        </p:blipFill>
        <p:spPr>
          <a:xfrm>
            <a:off x="673200" y="878040"/>
            <a:ext cx="4119480" cy="5359320"/>
          </a:xfrm>
          <a:prstGeom prst="rect">
            <a:avLst/>
          </a:prstGeom>
          <a:ln w="0">
            <a:noFill/>
          </a:ln>
        </p:spPr>
      </p:pic>
      <p:sp>
        <p:nvSpPr>
          <p:cNvPr id="40" name="TextBox 1"/>
          <p:cNvSpPr/>
          <p:nvPr/>
        </p:nvSpPr>
        <p:spPr>
          <a:xfrm>
            <a:off x="2157480" y="709560"/>
            <a:ext cx="5468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en-US" sz="6600" spc="-1" strike="noStrike">
                <a:solidFill>
                  <a:srgbClr val="00b050"/>
                </a:solidFill>
                <a:latin typeface="黑体"/>
                <a:ea typeface="黑体"/>
              </a:rPr>
              <a:t>i u ü y w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2"/>
          <a:stretch/>
        </p:blipFill>
        <p:spPr>
          <a:xfrm>
            <a:off x="3960720" y="2448000"/>
            <a:ext cx="2554560" cy="3425760"/>
          </a:xfrm>
          <a:prstGeom prst="rect">
            <a:avLst/>
          </a:prstGeom>
          <a:ln w="0">
            <a:noFill/>
          </a:ln>
        </p:spPr>
      </p:pic>
      <p:sp>
        <p:nvSpPr>
          <p:cNvPr id="43" name="矩形 14342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369200" cy="4924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632720" cy="52563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43880" cy="49816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065"/>
          <p:cNvPicPr/>
          <p:nvPr/>
        </p:nvPicPr>
        <p:blipFill>
          <a:blip r:embed="rId1"/>
          <a:stretch/>
        </p:blipFill>
        <p:spPr>
          <a:xfrm>
            <a:off x="108000" y="981000"/>
            <a:ext cx="8964720" cy="53452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453960" y="5419800"/>
            <a:ext cx="8497800" cy="360"/>
            <a:chOff x="453960" y="5419800"/>
            <a:chExt cx="8497800" cy="360"/>
          </a:xfrm>
        </p:grpSpPr>
        <p:sp>
          <p:nvSpPr>
            <p:cNvPr id="109" name="Line 2"/>
            <p:cNvSpPr/>
            <p:nvPr/>
          </p:nvSpPr>
          <p:spPr>
            <a:xfrm>
              <a:off x="453960" y="5419800"/>
              <a:ext cx="849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53960" y="5419800"/>
              <a:ext cx="849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6560" y="4786200"/>
            <a:ext cx="8425080" cy="360"/>
            <a:chOff x="466560" y="4786200"/>
            <a:chExt cx="8425080" cy="360"/>
          </a:xfrm>
        </p:grpSpPr>
        <p:sp>
          <p:nvSpPr>
            <p:cNvPr id="112" name="Line 3"/>
            <p:cNvSpPr/>
            <p:nvPr/>
          </p:nvSpPr>
          <p:spPr>
            <a:xfrm>
              <a:off x="466560" y="4786200"/>
              <a:ext cx="842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466560" y="4786200"/>
              <a:ext cx="842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66560" y="3430440"/>
            <a:ext cx="8425080" cy="360"/>
            <a:chOff x="466560" y="3430440"/>
            <a:chExt cx="8425080" cy="360"/>
          </a:xfrm>
        </p:grpSpPr>
        <p:sp>
          <p:nvSpPr>
            <p:cNvPr id="115" name="Line 4"/>
            <p:cNvSpPr/>
            <p:nvPr/>
          </p:nvSpPr>
          <p:spPr>
            <a:xfrm>
              <a:off x="466560" y="3430440"/>
              <a:ext cx="842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66560" y="3430440"/>
              <a:ext cx="842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6560" y="4078440"/>
            <a:ext cx="8425080" cy="360"/>
            <a:chOff x="466560" y="4078440"/>
            <a:chExt cx="8425080" cy="360"/>
          </a:xfrm>
        </p:grpSpPr>
        <p:sp>
          <p:nvSpPr>
            <p:cNvPr id="118" name="Line 5"/>
            <p:cNvSpPr/>
            <p:nvPr/>
          </p:nvSpPr>
          <p:spPr>
            <a:xfrm>
              <a:off x="466560" y="4078440"/>
              <a:ext cx="8425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66560" y="4078440"/>
              <a:ext cx="842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 Box 6"/>
          <p:cNvSpPr/>
          <p:nvPr/>
        </p:nvSpPr>
        <p:spPr>
          <a:xfrm>
            <a:off x="2808360" y="622440"/>
            <a:ext cx="57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Calibri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292720" y="909720"/>
            <a:ext cx="129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0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0.06936 L -2.77778E-006 0.45479 E"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065"/>
          <p:cNvPicPr/>
          <p:nvPr/>
        </p:nvPicPr>
        <p:blipFill>
          <a:blip r:embed="rId1"/>
          <a:stretch/>
        </p:blipFill>
        <p:spPr>
          <a:xfrm>
            <a:off x="108000" y="981000"/>
            <a:ext cx="8964720" cy="5345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2286000" y="1758960"/>
            <a:ext cx="6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645080" y="108108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020000" y="93672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372360" y="981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780000" y="1081080"/>
            <a:ext cx="9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810080" y="1527120"/>
            <a:ext cx="73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0" y="2276640"/>
            <a:ext cx="62280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小</a:t>
            </a:r>
            <a:r>
              <a:rPr b="0" lang="en-US" sz="9600" spc="-1" strike="noStrike">
                <a:solidFill>
                  <a:srgbClr val="000000"/>
                </a:solidFill>
                <a:latin typeface="宋体"/>
              </a:rPr>
              <a:t>ü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见到</a:t>
            </a:r>
            <a:r>
              <a:rPr b="0" lang="en-US" sz="96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擦掉眼泪笑嘻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766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260360" y="1916280"/>
            <a:ext cx="6973920" cy="4103640"/>
          </a:xfrm>
          <a:prstGeom prst="rect">
            <a:avLst/>
          </a:prstGeom>
          <a:ln w="0">
            <a:noFill/>
          </a:ln>
        </p:spPr>
      </p:pic>
      <p:sp>
        <p:nvSpPr>
          <p:cNvPr id="13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圆角矩形 13"/>
          <p:cNvSpPr/>
          <p:nvPr/>
        </p:nvSpPr>
        <p:spPr>
          <a:xfrm>
            <a:off x="5940360" y="1928880"/>
            <a:ext cx="1944720" cy="17985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圆角矩形 12"/>
          <p:cNvSpPr/>
          <p:nvPr/>
        </p:nvSpPr>
        <p:spPr>
          <a:xfrm>
            <a:off x="3317760" y="1928880"/>
            <a:ext cx="1943280" cy="17985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圆角矩形 1"/>
          <p:cNvSpPr/>
          <p:nvPr/>
        </p:nvSpPr>
        <p:spPr>
          <a:xfrm>
            <a:off x="658800" y="1928880"/>
            <a:ext cx="1944720" cy="17985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4120" y="4727520"/>
            <a:ext cx="8423280" cy="360"/>
            <a:chOff x="384120" y="4727520"/>
            <a:chExt cx="8423280" cy="360"/>
          </a:xfrm>
        </p:grpSpPr>
        <p:sp>
          <p:nvSpPr>
            <p:cNvPr id="145" name="Line 2"/>
            <p:cNvSpPr/>
            <p:nvPr/>
          </p:nvSpPr>
          <p:spPr>
            <a:xfrm>
              <a:off x="384120" y="4727520"/>
              <a:ext cx="842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84120" y="4727520"/>
              <a:ext cx="842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4120" y="5302080"/>
            <a:ext cx="8423280" cy="360"/>
            <a:chOff x="384120" y="5302080"/>
            <a:chExt cx="8423280" cy="360"/>
          </a:xfrm>
        </p:grpSpPr>
        <p:sp>
          <p:nvSpPr>
            <p:cNvPr id="148" name="Line 3"/>
            <p:cNvSpPr/>
            <p:nvPr/>
          </p:nvSpPr>
          <p:spPr>
            <a:xfrm>
              <a:off x="384120" y="5302080"/>
              <a:ext cx="842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84120" y="5302080"/>
              <a:ext cx="842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84120" y="5951520"/>
            <a:ext cx="8496360" cy="360"/>
            <a:chOff x="384120" y="5951520"/>
            <a:chExt cx="8496360" cy="360"/>
          </a:xfrm>
        </p:grpSpPr>
        <p:sp>
          <p:nvSpPr>
            <p:cNvPr id="151" name="Line 4"/>
            <p:cNvSpPr/>
            <p:nvPr/>
          </p:nvSpPr>
          <p:spPr>
            <a:xfrm>
              <a:off x="384120" y="5951520"/>
              <a:ext cx="849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84120" y="5951520"/>
              <a:ext cx="849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6720" y="4078440"/>
            <a:ext cx="8423280" cy="360"/>
            <a:chOff x="396720" y="4078440"/>
            <a:chExt cx="8423280" cy="360"/>
          </a:xfrm>
        </p:grpSpPr>
        <p:sp>
          <p:nvSpPr>
            <p:cNvPr id="154" name="Line 5"/>
            <p:cNvSpPr/>
            <p:nvPr/>
          </p:nvSpPr>
          <p:spPr>
            <a:xfrm>
              <a:off x="396720" y="4078440"/>
              <a:ext cx="84232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396720" y="4078440"/>
              <a:ext cx="842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Text Box 6"/>
          <p:cNvSpPr/>
          <p:nvPr/>
        </p:nvSpPr>
        <p:spPr>
          <a:xfrm>
            <a:off x="1073160" y="18763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305160" y="19479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238440" y="1832040"/>
            <a:ext cx="13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71640" y="412272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Calibri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359160" y="410688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Calibri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6124320" y="4102200"/>
            <a:ext cx="13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Calibri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同侧圆角矩形 1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4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53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8185 L 0.0059 0.45942 E">
                                      <p:cBhvr>
                                        <p:cTn id="15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6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8185 L 0.0059 0.45942 E">
                                      <p:cBhvr>
                                        <p:cTn id="16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12"/>
          <p:cNvSpPr/>
          <p:nvPr/>
        </p:nvSpPr>
        <p:spPr>
          <a:xfrm>
            <a:off x="2219400" y="915840"/>
            <a:ext cx="3889440" cy="120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71640" y="11923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认一认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672240" y="33577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Calibri"/>
              </a:rPr>
              <a:t>鸭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672240" y="2060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Calibri"/>
              </a:rPr>
              <a:t>y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图片 2" descr=""/>
          <p:cNvPicPr/>
          <p:nvPr/>
        </p:nvPicPr>
        <p:blipFill>
          <a:blip r:embed="rId1"/>
          <a:stretch/>
        </p:blipFill>
        <p:spPr>
          <a:xfrm>
            <a:off x="611280" y="2373480"/>
            <a:ext cx="4790880" cy="3449520"/>
          </a:xfrm>
          <a:prstGeom prst="rect">
            <a:avLst/>
          </a:prstGeom>
          <a:ln w="0">
            <a:noFill/>
          </a:ln>
        </p:spPr>
      </p:pic>
      <p:sp>
        <p:nvSpPr>
          <p:cNvPr id="170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7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7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8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2"/>
          <p:cNvSpPr/>
          <p:nvPr/>
        </p:nvSpPr>
        <p:spPr>
          <a:xfrm>
            <a:off x="3240000" y="1228680"/>
            <a:ext cx="3888000" cy="12002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780000" y="149076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认一认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672240" y="3357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Calibri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227640" y="216216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ff"/>
                </a:solidFill>
                <a:latin typeface="Calibri"/>
              </a:rPr>
              <a:t>wǒ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476280" y="2570040"/>
            <a:ext cx="4753080" cy="3421080"/>
          </a:xfrm>
          <a:prstGeom prst="rect">
            <a:avLst/>
          </a:prstGeom>
          <a:ln w="0">
            <a:noFill/>
          </a:ln>
        </p:spPr>
      </p:pic>
      <p:sp>
        <p:nvSpPr>
          <p:cNvPr id="17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89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193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457 L -0.00399 0.44254 E">
                                      <p:cBhvr>
                                        <p:cTn id="19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yd"/>
          <p:cNvPicPr/>
          <p:nvPr/>
        </p:nvPicPr>
        <p:blipFill>
          <a:blip r:embed="rId1"/>
          <a:stretch/>
        </p:blipFill>
        <p:spPr>
          <a:xfrm>
            <a:off x="828720" y="1197000"/>
            <a:ext cx="1720800" cy="5191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449160" y="1773360"/>
            <a:ext cx="142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读儿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7040" y="2490840"/>
            <a:ext cx="5232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libri"/>
                <a:ea typeface="楷体_GB2312"/>
              </a:rPr>
              <a:t>汉语拼音用处大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libri"/>
                <a:ea typeface="楷体_GB2312"/>
              </a:rPr>
              <a:t>学习生字需要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libri"/>
                <a:ea typeface="楷体_GB2312"/>
              </a:rPr>
              <a:t>教我说好普通话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libri"/>
                <a:ea typeface="楷体_GB2312"/>
              </a:rPr>
              <a:t>我们决心学好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扫描0002"/>
          <p:cNvPicPr/>
          <p:nvPr/>
        </p:nvPicPr>
        <p:blipFill>
          <a:blip r:embed="rId1"/>
          <a:stretch/>
        </p:blipFill>
        <p:spPr>
          <a:xfrm>
            <a:off x="0" y="981000"/>
            <a:ext cx="9107640" cy="5286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951600" y="90648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Calibri"/>
              </a:rPr>
              <a:t>u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4"/>
          <p:cNvSpPr/>
          <p:nvPr/>
        </p:nvSpPr>
        <p:spPr>
          <a:xfrm rot="300000">
            <a:off x="6876720" y="386244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0000"/>
                </a:solidFill>
                <a:latin typeface="黑体"/>
                <a:ea typeface="黑体"/>
              </a:rPr>
              <a:t>ü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411280" y="3860640"/>
            <a:ext cx="360" cy="863640"/>
            <a:chOff x="2411280" y="3860640"/>
            <a:chExt cx="360" cy="863640"/>
          </a:xfrm>
        </p:grpSpPr>
        <p:sp>
          <p:nvSpPr>
            <p:cNvPr id="50" name="Line 5"/>
            <p:cNvSpPr/>
            <p:nvPr/>
          </p:nvSpPr>
          <p:spPr>
            <a:xfrm>
              <a:off x="2411280" y="3860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2411280" y="386064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Oval 6"/>
          <p:cNvSpPr/>
          <p:nvPr/>
        </p:nvSpPr>
        <p:spPr>
          <a:xfrm>
            <a:off x="2340000" y="3645000"/>
            <a:ext cx="14292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"/>
          <p:cNvSpPr/>
          <p:nvPr/>
        </p:nvSpPr>
        <p:spPr>
          <a:xfrm rot="480000">
            <a:off x="1431360" y="1631880"/>
            <a:ext cx="693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Calibri"/>
              </a:rPr>
              <a:t>y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3668760" y="1030320"/>
            <a:ext cx="24480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ff0000"/>
                </a:solidFill>
                <a:latin typeface="Calibri"/>
              </a:rPr>
              <a:t>w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"/>
          <p:cNvPicPr/>
          <p:nvPr/>
        </p:nvPicPr>
        <p:blipFill>
          <a:blip r:embed="rId1"/>
          <a:stretch/>
        </p:blipFill>
        <p:spPr>
          <a:xfrm>
            <a:off x="4408560" y="2610000"/>
            <a:ext cx="4484520" cy="3516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880800" y="923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Calibri"/>
              </a:rPr>
              <a:t>对韵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22280" y="2060640"/>
            <a:ext cx="5232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仿宋"/>
                <a:ea typeface="仿宋"/>
              </a:rPr>
              <a:t>葡萄架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仿宋"/>
                <a:ea typeface="仿宋"/>
              </a:rPr>
              <a:t>苹果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仿宋"/>
                <a:ea typeface="仿宋"/>
              </a:rPr>
              <a:t>李苦对瓜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411360" y="2060640"/>
            <a:ext cx="5232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仿宋"/>
                <a:ea typeface="仿宋"/>
              </a:rPr>
              <a:t>风习习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仿宋"/>
                <a:ea typeface="仿宋"/>
              </a:rPr>
              <a:t>雨绵绵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仿宋"/>
                <a:ea typeface="仿宋"/>
              </a:rPr>
              <a:t>地北对天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uzhuangguanggao2_0269"/>
          <p:cNvPicPr/>
          <p:nvPr/>
        </p:nvPicPr>
        <p:blipFill>
          <a:blip r:embed="rId1"/>
          <a:stretch/>
        </p:blipFill>
        <p:spPr>
          <a:xfrm>
            <a:off x="1403280" y="2133720"/>
            <a:ext cx="4667400" cy="356220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6227640" y="1413000"/>
            <a:ext cx="1295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i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203640" y="1268280"/>
            <a:ext cx="17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I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楷体_GB2312"/>
              </a:rPr>
              <a:t>上加点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9584E-006 L -0.36215 -4.49584E-006 E">
                                      <p:cBhvr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39640" y="3051000"/>
            <a:ext cx="7921800" cy="2880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03360" y="18208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读“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时，嘴角展开，牙齿对齐，也叫齐齿“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42920" y="757080"/>
            <a:ext cx="6782040" cy="4942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84360" y="48211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标声调时，要把点去掉，然后再标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3"/>
          <p:cNvSpPr txBox="1"/>
          <p:nvPr/>
        </p:nvSpPr>
        <p:spPr>
          <a:xfrm>
            <a:off x="4140360" y="3773520"/>
            <a:ext cx="4248000" cy="20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u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2480" y="3114720"/>
            <a:ext cx="210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小小乌龟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uu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2" descr=""/>
          <p:cNvPicPr/>
          <p:nvPr/>
        </p:nvPicPr>
        <p:blipFill>
          <a:blip r:embed="rId1"/>
          <a:stretch/>
        </p:blipFill>
        <p:spPr>
          <a:xfrm>
            <a:off x="3924360" y="836640"/>
            <a:ext cx="4581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06E-006 L -0.46858 -0.09413 E">
                                      <p:cBhvr>
                                        <p:cTn id="5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581880" cy="5059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201080" cy="5096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2151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8411133850229_2"/>
          <p:cNvPicPr/>
          <p:nvPr/>
        </p:nvPicPr>
        <p:blipFill>
          <a:blip r:embed="rId1"/>
          <a:stretch/>
        </p:blipFill>
        <p:spPr>
          <a:xfrm>
            <a:off x="1044720" y="1197000"/>
            <a:ext cx="4267080" cy="507528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5940360" y="2349360"/>
            <a:ext cx="23749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"/>
              </a:rPr>
              <a:t>ü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88480" y="119700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小鱼吐泡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üü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11:00Z</dcterms:created>
  <dc:creator/>
  <dc:description/>
  <dc:language>en-US</dc:language>
  <cp:lastModifiedBy>啊啊</cp:lastModifiedBy>
  <dcterms:modified xsi:type="dcterms:W3CDTF">2017-06-24T15:01:44Z</dcterms:modified>
  <cp:revision>5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